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9D62-F8B2-4EEB-877C-570A6DCB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6BB5-FECB-40C8-B62A-B12E180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E887-CDAA-471F-9D94-D77EB649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A74-3AAE-4501-83E6-AC34698D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1851-DA86-47FA-B332-1B417153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49D5-EA2E-4F8A-843C-C7A8EB6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3F5-1E22-43C2-8314-CB1179C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332-51A3-488B-A648-66A9FEB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EA7-CBB0-4EEE-9ABC-41E477B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D0E8-EE13-4F0B-A294-5D19702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54A-161F-4EEE-A8B6-38EB74F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0A59-965D-4D2C-AF2F-818A6A72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6BF9-D6EA-489D-AA68-61C8C19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F4C-A81B-4DE3-A4D5-02E0C1E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FA0-726A-40E7-9DCD-B702AC0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DCDE-9C46-487F-BD2A-396BA37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E9B-D4CB-4D31-91D6-418BD993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11D3-D547-41E2-AD3C-976FDB89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5057-D845-4FAB-BF4B-5D2EBB5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68ED-B015-45DF-95C8-449C0E9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9B92-34EB-48D1-BB81-F95ED6A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8717-0E99-4089-B5A8-B153DB6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7744-5B8A-4CBA-8595-44DC052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B633-E414-462D-9094-D5CD990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A59-D143-47B7-BD10-D545DAEA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F85-7941-4B31-96DA-FAFD48C74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e5ff"/>
                </a:solidFill>
                <a:latin typeface="Garamond"/>
              </a:rPr>
              <a:t>Забытые святыни </a:t>
            </a: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                                          </a:t>
            </a:r>
            <a:r>
              <a:rPr b="1" i="1" lang="ru-RU" sz="3600" spc="-1" strike="noStrike">
                <a:solidFill>
                  <a:srgbClr val="e5e5ff"/>
                </a:solidFill>
                <a:latin typeface="Garamond"/>
              </a:rPr>
              <a:t>( Свято –Никольских храм </a:t>
            </a: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                         </a:t>
            </a:r>
            <a:r>
              <a:rPr b="1" i="1" lang="ru-RU" sz="3600" spc="-1" strike="noStrike">
                <a:solidFill>
                  <a:srgbClr val="e5e5ff"/>
                </a:solidFill>
                <a:latin typeface="Garamond"/>
              </a:rPr>
              <a:t>станицы Советской (Урупской)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читель истории и ОПК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ОБУСОШ № 10 ст. Советской Новокубанский район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яскин Виктор Николаеви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Храм св. Николая  Угодника Архитектор Тарасов В.Н.                Фото 1911 г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469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лужба в храме св. Николая Угодника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вященник Андрей Величко, дьякон Николай Сугаков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74832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Храм св. Николая Угодника                                                  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в 50-е-90-е годы XX ве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98880" cy="270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427640" y="3745080"/>
            <a:ext cx="3889440" cy="269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Начало строительства хр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tklgfg"/>
          <p:cNvPicPr/>
          <p:nvPr/>
        </p:nvPicPr>
        <p:blipFill>
          <a:blip r:embed="rId1"/>
          <a:stretch/>
        </p:blipFill>
        <p:spPr>
          <a:xfrm>
            <a:off x="324000" y="1916280"/>
            <a:ext cx="5171760" cy="3876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thjklp"/>
          <p:cNvPicPr/>
          <p:nvPr/>
        </p:nvPicPr>
        <p:blipFill>
          <a:blip r:embed="rId2"/>
          <a:stretch/>
        </p:blipFill>
        <p:spPr>
          <a:xfrm>
            <a:off x="4500720" y="3213000"/>
            <a:ext cx="430992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Храм св. Николая Угодника ст. Советская 2011 год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Изображение 256"/>
          <p:cNvPicPr/>
          <p:nvPr/>
        </p:nvPicPr>
        <p:blipFill>
          <a:blip r:embed="rId1"/>
          <a:stretch/>
        </p:blipFill>
        <p:spPr>
          <a:xfrm>
            <a:off x="179280" y="119700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4587840" cy="344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40360" y="1412640"/>
            <a:ext cx="52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плохо тебе, если холод в груд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горе все солнце закрыло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божий храм ты тогда поскорей приход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ы вера тебя укрепи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гче станет тебе в старой церкви стенах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ово пастыря душу омо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а в Бога поможет в дальнейших делах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ери к жизни счастливой откро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ет сразу на сердце светло и легко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е вокруг, вдруг покажется краш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е печали уйдут далеко-далек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авься, Русь православная наша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скин В.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Картинка 10 из 156"/>
          <p:cNvPicPr/>
          <p:nvPr/>
        </p:nvPicPr>
        <p:blipFill>
          <a:blip r:embed="rId1"/>
          <a:stretch/>
        </p:blipFill>
        <p:spPr>
          <a:xfrm>
            <a:off x="324000" y="1268280"/>
            <a:ext cx="382716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7:28:23Z</dcterms:created>
  <dc:creator>User</dc:creator>
  <dc:description/>
  <dc:language>en-US</dc:language>
  <cp:lastModifiedBy>Вьюнова Наталья Николаевна</cp:lastModifiedBy>
  <dcterms:modified xsi:type="dcterms:W3CDTF">2015-05-27T13:57:03Z</dcterms:modified>
  <cp:revision>54</cp:revision>
  <dc:subject/>
  <dc:title>Слайд 1</dc:title>
</cp:coreProperties>
</file>